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4.png" ContentType="image/png"/>
  <Override PartName="/ppt/media/image33.wmf" ContentType="image/x-wmf"/>
  <Override PartName="/ppt/media/image47.png" ContentType="image/png"/>
  <Override PartName="/ppt/media/image1.jpeg" ContentType="image/jpeg"/>
  <Override PartName="/ppt/media/image21.png" ContentType="image/png"/>
  <Override PartName="/ppt/media/image61.wmf" ContentType="image/x-wmf"/>
  <Override PartName="/ppt/media/image3.wmf" ContentType="image/x-wmf"/>
  <Override PartName="/ppt/media/image58.png" ContentType="image/png"/>
  <Override PartName="/ppt/media/image10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57.png" ContentType="image/png"/>
  <Override PartName="/ppt/media/image28.png" ContentType="image/png"/>
  <Override PartName="/ppt/media/image43.jpeg" ContentType="image/jpeg"/>
  <Override PartName="/ppt/media/image5.png" ContentType="image/png"/>
  <Override PartName="/ppt/media/image17.png" ContentType="image/png"/>
  <Override PartName="/ppt/media/image14.png" ContentType="image/png"/>
  <Override PartName="/ppt/media/image55.wmf" ContentType="image/x-wmf"/>
  <Override PartName="/ppt/media/image15.png" ContentType="image/png"/>
  <Override PartName="/ppt/media/image25.png" ContentType="image/png"/>
  <Override PartName="/ppt/media/image24.wmf" ContentType="image/x-wmf"/>
  <Override PartName="/ppt/media/image27.wmf" ContentType="image/x-wmf"/>
  <Override PartName="/ppt/media/image26.png" ContentType="image/png"/>
  <Override PartName="/ppt/media/image60.png" ContentType="image/png"/>
  <Override PartName="/ppt/media/image23.png" ContentType="image/png"/>
  <Override PartName="/ppt/media/image30.gif" ContentType="image/gif"/>
  <Override PartName="/ppt/media/image59.png" ContentType="image/png"/>
  <Override PartName="/ppt/media/image22.png" ContentType="image/png"/>
  <Override PartName="/ppt/media/image16.png" ContentType="image/png"/>
  <Override PartName="/ppt/media/image4.png" ContentType="image/png"/>
  <Override PartName="/ppt/media/image29.wmf" ContentType="image/x-wmf"/>
  <Override PartName="/ppt/media/image11.png" ContentType="image/png"/>
  <Override PartName="/ppt/media/image34.jpeg" ContentType="image/jpeg"/>
  <Override PartName="/ppt/media/image18.png" ContentType="image/png"/>
  <Override PartName="/ppt/media/image40.wmf" ContentType="image/x-wmf"/>
  <Override PartName="/ppt/media/image6.png" ContentType="image/png"/>
  <Override PartName="/ppt/media/image12.png" ContentType="image/png"/>
  <Override PartName="/ppt/media/image49.png" ContentType="image/png"/>
  <Override PartName="/ppt/media/image7.png" ContentType="image/png"/>
  <Override PartName="/ppt/media/image19.png" ContentType="image/png"/>
  <Override PartName="/ppt/media/image41.wmf" ContentType="image/x-wmf"/>
  <Override PartName="/ppt/media/image13.png" ContentType="image/png"/>
  <Override PartName="/ppt/media/image9.png" ContentType="image/png"/>
  <Override PartName="/ppt/media/image8.png" ContentType="image/png"/>
  <Override PartName="/ppt/media/image42.wmf" ContentType="image/x-wmf"/>
  <Override PartName="/ppt/media/image31.jpeg" ContentType="image/jpeg"/>
  <Override PartName="/ppt/media/image32.png" ContentType="image/png"/>
  <Override PartName="/ppt/media/image35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44.png" ContentType="image/png"/>
  <Override PartName="/ppt/media/image48.png" ContentType="image/png"/>
  <Override PartName="/ppt/media/image45.jpeg" ContentType="image/jpe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eiryoKe_Gothic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4FA0A20-CB7A-4AC0-99D1-214CB6FC38C3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「ロングテール」を意識したビジネスを展開するためには「ユーザー参加型」により多くのユーザーフィードバックを集めることが欠かせないし、多くのユー ザーを参加させるために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JAX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などを用いて「リッチなユーザー体験」を実現し、ユーザーが口コミ情報を入力したくなるような魅力的な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イトを構 築する必要があ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「ロングテール」を意識したビジネスを展開するためには「ユーザー参加型」により多くのユーザーフィードバックを集めることが欠かせないし、多くのユー ザーを参加させるために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JAX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などを用いて「リッチなユーザー体験」を実現し、ユーザーが口コミ情報を入力したくなるような魅力的な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イトを構 築する必要があ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ノベーション勉強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ノベーション勉強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ノベーション勉強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4E01-4023-4857-A224-1E8587DA6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96A8-CC5F-4048-B00A-10275AA57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FED0-54BD-4C32-988C-AA4969D20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D38B-7960-4888-B4CD-9ABB93137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D69A-C7BC-44DB-97AB-0BB0E8E69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C167-D855-4F5B-80AA-656F183DA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85A7-E865-43A8-A95E-C75B7B59A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CE20-8B99-4F81-81D4-CD897E80D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E3BD-3C04-4BA1-8C0A-BEE23B39C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4A61-8F77-43C3-A74E-ADA98E0A1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DA48-8CAA-46E1-AECD-335DB6299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17AF-70F2-449B-901D-60A0C238C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eiryoKe_Gothic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10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1" marL="519840" indent="-199800">
              <a:spcBef>
                <a:spcPts val="10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2" marL="799920" indent="-159840">
              <a:spcBef>
                <a:spcPts val="10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3" marL="1119960" indent="-159840">
              <a:spcBef>
                <a:spcPts val="10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4" marL="1440000" indent="-159840">
              <a:spcBef>
                <a:spcPts val="10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5" marL="1440000" indent="-15984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6" marL="1440000" indent="-15984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MeiryoKe_Gothic"/>
                <a:ea typeface="MeiryoKe_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1F62-44F3-4F73-9A63-70F5417193C5}" type="slidenum">
              <a:rPr b="0" lang="ja-JP" sz="1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eiryoKe_Gothic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1" marL="3290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2" marL="658080" algn="ctr">
              <a:spcBef>
                <a:spcPts val="10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3" marL="987480" algn="ctr">
              <a:spcBef>
                <a:spcPts val="10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4" marL="1316520" algn="ctr">
              <a:spcBef>
                <a:spcPts val="10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5" marL="131652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  <a:p>
            <a:pPr lvl="6" marL="131652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eiryoKe_Gothi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MCCA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　～宮城コンテンツクリエイターズ協議会～　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総会</a:t>
            </a:r>
            <a:br>
              <a:rPr sz="3200"/>
            </a:br>
            <a:br>
              <a:rPr sz="3200"/>
            </a:br>
            <a:r>
              <a:rPr b="0" lang="ja-JP" sz="2400" spc="-1" strike="noStrike">
                <a:solidFill>
                  <a:srgbClr val="ffffff"/>
                </a:solidFill>
                <a:latin typeface="MeiryoKe_Gothic"/>
              </a:rPr>
              <a:t>「</a:t>
            </a:r>
            <a:r>
              <a:rPr b="0" lang="ja-JP" sz="24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400" spc="-1" strike="noStrike">
                <a:solidFill>
                  <a:srgbClr val="ffffff"/>
                </a:solidFill>
                <a:latin typeface="MeiryoKe_Gothic"/>
              </a:rPr>
              <a:t>ネクスト時代におけるデジタルコンテンツの未来」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Gothic"/>
              </a:rPr>
              <a:t>～</a:t>
            </a:r>
            <a:r>
              <a:rPr b="0" lang="ja-JP" sz="2400" spc="-1" strike="noStrike">
                <a:solidFill>
                  <a:srgbClr val="ffffff"/>
                </a:solidFill>
                <a:latin typeface="MeiryoKe_Gothic"/>
              </a:rPr>
              <a:t>Google,SNS,Youtube,Second life</a:t>
            </a:r>
            <a:r>
              <a:rPr b="0" lang="ja-JP" sz="2400" spc="-1" strike="noStrike">
                <a:solidFill>
                  <a:srgbClr val="ffffff"/>
                </a:solidFill>
                <a:latin typeface="MeiryoKe_Gothic"/>
              </a:rPr>
              <a:t>におけるイノベーション～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Gothic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2007</a:t>
            </a: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年</a:t>
            </a: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3</a:t>
            </a: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月</a:t>
            </a: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23</a:t>
            </a: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日 </a:t>
            </a: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16:00-17:00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MCCA</a:t>
            </a: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総会　講演　</a:t>
            </a:r>
            <a:br>
              <a:rPr sz="3200"/>
            </a:b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瀧澤　勇人　</a:t>
            </a:r>
            <a:r>
              <a:rPr b="0" lang="ja-JP" sz="3200" spc="-1" strike="noStrike">
                <a:solidFill>
                  <a:srgbClr val="ffffff"/>
                </a:solidFill>
                <a:latin typeface="MeiryoKe_Gothic"/>
              </a:rPr>
              <a:t>(taki@ngo.ne.jp)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MeiryoKe_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136440" y="1066680"/>
            <a:ext cx="900756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何が変わったの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「双方向でリアルタイム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ユーザー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口コミ情報を入力したくなるような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魅力的な</a:t>
            </a:r>
            <a:r>
              <a:rPr b="0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</a:t>
            </a:r>
            <a:r>
              <a:rPr b="0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サイ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05720" y="228600"/>
          <a:ext cx="22096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28600"/>
                    <a:ext cx="22096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33520"/>
            <a:ext cx="90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2.0</a:t>
            </a:r>
            <a:r>
              <a:rPr b="0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サービスをしている企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4152960" cy="476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876400" cy="4762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00280" y="6248520"/>
            <a:ext cx="80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参考：</a:t>
            </a:r>
            <a:r>
              <a:rPr b="0" lang="ja-JP" sz="1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http://flickr.com/photos/stabilo-boss/101793494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1463760" y="762120"/>
            <a:ext cx="6349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2.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サイトを提供している企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成功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儲かっているところは意外と少な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391520" y="1752480"/>
          <a:ext cx="15746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1752480"/>
                    <a:ext cx="15746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685800"/>
            <a:ext cx="87631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ネットビジネスの収益構造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１．ユーザー課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２．手数料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３．広告料収入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248520" y="4876920"/>
          <a:ext cx="2286000" cy="15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876920"/>
                    <a:ext cx="228600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669960"/>
            <a:ext cx="883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2.0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サイトビジネスモデル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１．ユーザー課金　なし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２．手数料　　　　なし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00"/>
                </a:solidFill>
                <a:latin typeface="MeiryoKe_Gothic"/>
                <a:ea typeface="MeiryoKe_Gothic"/>
              </a:rPr>
              <a:t>３．広告料収入　　あり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36480" y="5029200"/>
            <a:ext cx="258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2.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サイトの収益は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広告料収入が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5181480"/>
          <a:ext cx="198108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81480"/>
                    <a:ext cx="198108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99864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ビジネスモデル例： 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Google AdS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（コンテンツマッチ　リスティング広告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少額のクリック課金による広告収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１つ１つは少額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→大量のアクセ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→広告をなるべく多くの場所に表示す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781680" y="3860640"/>
          <a:ext cx="2362320" cy="15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860640"/>
                    <a:ext cx="236232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120680"/>
            <a:ext cx="883908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2.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サイト　収益をあげる方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いかにたくさんのユーザーを集める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 </a:t>
            </a:r>
            <a:r>
              <a:rPr b="0" lang="ja-JP" sz="55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ユーザー数が収益に直結　　　（ユーザ数＝収益）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162920" y="0"/>
          <a:ext cx="17143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0"/>
                    <a:ext cx="1714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883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ユーザー数と収益　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平均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CTR●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％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クリック●円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日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00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アクセスで、いくら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日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万アクセスでは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467480" y="228600"/>
          <a:ext cx="13716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3716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120680"/>
            <a:ext cx="883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,00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アクセスで、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日●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0,00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アクセスで、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日●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　→　ペイする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96080" y="380880"/>
          <a:ext cx="12193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80880"/>
                    <a:ext cx="12193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14479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2.0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企業のビジネ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 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薄利多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（薄く広く、量を稼ぐ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お話したいこと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87" name=""/>
          <p:cNvSpPr/>
          <p:nvPr/>
        </p:nvSpPr>
        <p:spPr>
          <a:xfrm>
            <a:off x="136440" y="1143000"/>
            <a:ext cx="9007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コンテンツクリエーターの時代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ついにやってきた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j0386362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9652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609480"/>
            <a:ext cx="891540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米国の兆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ALEXA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Digg,del.icio.us,Frickr,mysp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トラフィック下降現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2.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ブームが終わりつつあ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84520" y="6461280"/>
            <a:ext cx="67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参考：</a:t>
            </a:r>
            <a:r>
              <a:rPr b="0" lang="ja-JP" sz="1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http://zen.seesaa.net/article/36479418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52960" y="380880"/>
            <a:ext cx="3191040" cy="1957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772400" y="838080"/>
            <a:ext cx="1371600" cy="533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609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MeiryoKe_Gothic"/>
                <a:ea typeface="MeiryoKe_Gothic"/>
              </a:rPr>
              <a:t>ALEX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3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から　次のネクスト時代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3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4.0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108576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3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から　次のネクスト時代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3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4.0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108576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907920"/>
            <a:ext cx="909972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5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3.0</a:t>
            </a:r>
            <a:r>
              <a:rPr b="0" lang="ja-JP" sz="55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</a:t>
            </a:r>
            <a:r>
              <a:rPr b="0" lang="ja-JP" sz="55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4.0</a:t>
            </a:r>
            <a:r>
              <a:rPr b="0" lang="ja-JP" sz="55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の時代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5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＝シンクライアントの時代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5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常時高速ネットワーク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5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＋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5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ブラウザ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5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だけでＯＫ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3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から　次のネクスト時代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3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4.0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66" name=""/>
          <p:cNvSpPr/>
          <p:nvPr/>
        </p:nvSpPr>
        <p:spPr>
          <a:xfrm>
            <a:off x="108576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4280" y="76212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ウェブ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61400" y="1600200"/>
            <a:ext cx="57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ブラウザ上でデスクトップ環境を実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27440" y="2371680"/>
            <a:ext cx="643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Crayth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You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Desktoptw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eye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G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goo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ラボ ウェブデスクトップ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(3/20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4067280" cy="2610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14720" y="6510240"/>
            <a:ext cx="534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参考：</a:t>
            </a:r>
            <a:r>
              <a:rPr b="0" lang="ja-JP" sz="1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</a:t>
            </a:r>
            <a:r>
              <a:rPr b="0" lang="ja-JP" sz="1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http://d.hatena.ne.jp/NGC2237/200701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3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から　次のネクスト時代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3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4.0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108576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83808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Google Docs &amp; Spreadshee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/16 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日本語版スター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複数のメンバーで一緒にドキュメントを作成、共有、編集が可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1800" y="4800600"/>
            <a:ext cx="30481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3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から　次のネクスト時代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3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4.0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108576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91440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イーアクセ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月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1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日か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EM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モバイルブロードバン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定額の高速データ通信サービス開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受信最大通信速度　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.6Mb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送信最大通信速度　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84kb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定額　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5980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2048040" cy="1863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77120" y="838080"/>
            <a:ext cx="244764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3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から　次のネクスト時代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3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　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4.0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108576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828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先行きは誰もわからな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年前には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 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Youtube(2005.2) 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はなかっ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E02097_" descr=""/>
          <p:cNvPicPr/>
          <p:nvPr/>
        </p:nvPicPr>
        <p:blipFill>
          <a:blip r:embed="rId1"/>
          <a:stretch/>
        </p:blipFill>
        <p:spPr>
          <a:xfrm>
            <a:off x="6781680" y="4708440"/>
            <a:ext cx="1936800" cy="15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120680"/>
            <a:ext cx="8464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コンテンツビジネ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ＳＮ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ブロ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動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112160" y="914400"/>
          <a:ext cx="15746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2160" y="914400"/>
                    <a:ext cx="15746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685800"/>
            <a:ext cx="891540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SNS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= mix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まったりとした　つなが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mixi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カウンター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00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万超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(SNS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統計ページ　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2007.3.2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mixi.jp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	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  10575220  +21727 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前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カフェスタ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	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727705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+0 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前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gree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	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    650650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+0 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前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キヌガサ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	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 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54780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 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+19 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前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086600" y="685800"/>
            <a:ext cx="1809720" cy="7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85800"/>
            <a:ext cx="8915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SNS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の乱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ターゲットを絞った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SNS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地域系　ペット系　●●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オープンソース　誰でも作れ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j0290801" descr=""/>
          <p:cNvPicPr/>
          <p:nvPr/>
        </p:nvPicPr>
        <p:blipFill>
          <a:blip r:embed="rId1"/>
          <a:stretch/>
        </p:blipFill>
        <p:spPr>
          <a:xfrm>
            <a:off x="7010280" y="0"/>
            <a:ext cx="195588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１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とは（おさらい）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90" name=""/>
          <p:cNvSpPr/>
          <p:nvPr/>
        </p:nvSpPr>
        <p:spPr>
          <a:xfrm>
            <a:off x="136440" y="1143000"/>
            <a:ext cx="90075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ウェブ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2.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ウェブ技術の高度化にともなう一連の効果を象徴する現象用語 　（バズワード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様々な定義、常に変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　　　　　　→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曖昧模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　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j0308964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67240" cy="17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120680"/>
            <a:ext cx="8464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ブロ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日々の日記　感じたこ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（続けるのが大変・・・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686640" y="380880"/>
            <a:ext cx="245736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120680"/>
            <a:ext cx="8464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goo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リサーチの調査結果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ブログ作成経験があるアンケート回答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％の人がすでにブログをやめてい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BD06790_" descr=""/>
          <p:cNvPicPr/>
          <p:nvPr/>
        </p:nvPicPr>
        <p:blipFill>
          <a:blip r:embed="rId1"/>
          <a:stretch/>
        </p:blipFill>
        <p:spPr>
          <a:xfrm>
            <a:off x="7391520" y="559764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120680"/>
            <a:ext cx="8839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日経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BP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「個人ブロガーの活動実態調査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アフィリエイトを利用していても、６カ月間収入が「ない」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6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　　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50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円未満が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１万円以上の収入を得ているブロガーは１割にも満たない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j0282753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31112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120680"/>
            <a:ext cx="883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ブログで生活できるのは少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j0285142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2666880" cy="17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094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「アジャイルメディア・ネットワーク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(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ＡＭＮ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)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「アルファブロガー」と呼ばれる人気ブロガーをネットワークして、ブログに広告を配信する日本初のブログネットワーク運営会社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(2/2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297180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0948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米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ブログネットワークが急成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「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Federated Media Publishing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月間３億ＰＶ、売上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00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万ドル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既存マスメディアを凌駕しつつあ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j0079065" descr=""/>
          <p:cNvPicPr/>
          <p:nvPr/>
        </p:nvPicPr>
        <p:blipFill>
          <a:blip r:embed="rId1"/>
          <a:stretch/>
        </p:blipFill>
        <p:spPr>
          <a:xfrm>
            <a:off x="6818400" y="0"/>
            <a:ext cx="232560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838080"/>
            <a:ext cx="8464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【従来のブログ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個別　テキスト中心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ネットワーク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テキストから</a:t>
            </a:r>
            <a:r>
              <a:rPr b="0" lang="ja-JP" sz="5400" spc="-1" strike="noStrike">
                <a:solidFill>
                  <a:srgbClr val="ffff00"/>
                </a:solidFill>
                <a:latin typeface="MeiryoKe_Gothic"/>
                <a:ea typeface="MeiryoKe_Gothic"/>
              </a:rPr>
              <a:t>動画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お茶の間の中心メディア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j0309033" descr=""/>
          <p:cNvPicPr/>
          <p:nvPr/>
        </p:nvPicPr>
        <p:blipFill>
          <a:blip r:embed="rId1"/>
          <a:stretch/>
        </p:blipFill>
        <p:spPr>
          <a:xfrm>
            <a:off x="7391520" y="533520"/>
            <a:ext cx="155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120680"/>
            <a:ext cx="8464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動画と言ったら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やっぱり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Youtu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Goo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6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億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500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万ドルで買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BS02064_" descr=""/>
          <p:cNvPicPr/>
          <p:nvPr/>
        </p:nvPicPr>
        <p:blipFill>
          <a:blip r:embed="rId1"/>
          <a:stretch/>
        </p:blipFill>
        <p:spPr>
          <a:xfrm>
            <a:off x="7162920" y="464832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685800"/>
            <a:ext cx="84646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動画共有サイト乱立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YouTube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以外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Google Vide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Metaca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Dailymo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jumpc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Ameba Vision 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（日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Ask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ビデオ（日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・・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j0285126" descr=""/>
          <p:cNvPicPr/>
          <p:nvPr/>
        </p:nvPicPr>
        <p:blipFill>
          <a:blip r:embed="rId1"/>
          <a:stretch/>
        </p:blipFill>
        <p:spPr>
          <a:xfrm>
            <a:off x="6477120" y="4800600"/>
            <a:ext cx="2286000" cy="15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676520"/>
            <a:ext cx="883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mixi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も動画共有を開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そういえば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Gyao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なんていうのもあった・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atchme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ワッチミーはどうなった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BD05545_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82880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１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とは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85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集合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ユーザー参加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ロングテー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AJA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リッチクライアン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永遠のベータ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R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マッシュアッ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j0238196" descr=""/>
          <p:cNvPicPr/>
          <p:nvPr/>
        </p:nvPicPr>
        <p:blipFill>
          <a:blip r:embed="rId1"/>
          <a:stretch/>
        </p:blipFill>
        <p:spPr>
          <a:xfrm>
            <a:off x="7361280" y="0"/>
            <a:ext cx="1782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914400"/>
            <a:ext cx="8839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動画共有サイト収益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１．ユーザー課金　なし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２．物販手数料　　なし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00"/>
                </a:solidFill>
                <a:latin typeface="MeiryoKe_Gothic"/>
                <a:ea typeface="MeiryoKe_Gothic"/>
              </a:rPr>
              <a:t>３．広告料収入　　あり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j0198365" descr=""/>
          <p:cNvPicPr/>
          <p:nvPr/>
        </p:nvPicPr>
        <p:blipFill>
          <a:blip r:embed="rId1"/>
          <a:stretch/>
        </p:blipFill>
        <p:spPr>
          <a:xfrm>
            <a:off x="6473880" y="228600"/>
            <a:ext cx="267012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914400"/>
            <a:ext cx="8839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動画共有サイトのゴール！？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たくさんのユーザーから投稿を集めて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→　Ｍ＆Ａ売却？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→　広告収入？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j0079064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2057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1447920"/>
            <a:ext cx="8686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ＳＯＸ法など　上場が難しくなってき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M&amp;A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で買収されるのが成功の一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j0079052" descr=""/>
          <p:cNvPicPr/>
          <p:nvPr/>
        </p:nvPicPr>
        <p:blipFill>
          <a:blip r:embed="rId1"/>
          <a:stretch/>
        </p:blipFill>
        <p:spPr>
          <a:xfrm>
            <a:off x="6781680" y="4572000"/>
            <a:ext cx="182880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685800"/>
            <a:ext cx="89154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日本のメディアの接触時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日あたり　　　　　　　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テレビ視聴時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時間～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時間未満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4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ネット閲覧時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時間～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時間未満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4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（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2006.4.13 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インフォプラント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j0232047" descr=""/>
          <p:cNvPicPr/>
          <p:nvPr/>
        </p:nvPicPr>
        <p:blipFill>
          <a:blip r:embed="rId1"/>
          <a:stretch/>
        </p:blipFill>
        <p:spPr>
          <a:xfrm>
            <a:off x="7194600" y="228600"/>
            <a:ext cx="1949400" cy="15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685800"/>
            <a:ext cx="89154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情報収集に役立つメディア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インターネット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88.1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％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テレビ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48.4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新聞　  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4.2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雑誌　  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7.7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ラジオ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0.3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（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2006.3.24 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インフォプラント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j0079061" descr=""/>
          <p:cNvPicPr/>
          <p:nvPr/>
        </p:nvPicPr>
        <p:blipFill>
          <a:blip r:embed="rId1"/>
          <a:stretch/>
        </p:blipFill>
        <p:spPr>
          <a:xfrm>
            <a:off x="7126200" y="304920"/>
            <a:ext cx="201780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914400"/>
            <a:ext cx="8839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動画共有サイト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実際には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著作権違反の投稿も多い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指摘を受けて削除する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　　　　イタチごっこ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j0284877" descr=""/>
          <p:cNvPicPr/>
          <p:nvPr/>
        </p:nvPicPr>
        <p:blipFill>
          <a:blip r:embed="rId1"/>
          <a:stretch/>
        </p:blipFill>
        <p:spPr>
          <a:xfrm>
            <a:off x="6705720" y="762120"/>
            <a:ext cx="220968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69960"/>
            <a:ext cx="883908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先行している韓国でも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「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User Created Contents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」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じゃなく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「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User Copied Contents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」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80000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914400"/>
            <a:ext cx="88390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韓国ＴＶ業界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投稿サイトと共存探る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５分未満ならコピー動画ＯＫ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（</a:t>
            </a:r>
            <a:r>
              <a:rPr b="0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PandoraTV</a:t>
            </a:r>
            <a:r>
              <a:rPr b="0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：放送局と、口頭合意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j028487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69960"/>
            <a:ext cx="883908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ソウル放送（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SBS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）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「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NeTV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」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自社ドラマの再放送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VOD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予告編の動画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ユーザーが自由に編集し転載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できるツールを提供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289548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69960"/>
            <a:ext cx="8839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動画投稿サイト「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PandoraTV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」現在 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20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万人の会員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月間５万件の動画投稿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１億回の視聴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100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万件に及ぶコメント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 u="sng">
                <a:solidFill>
                  <a:srgbClr val="ffffff"/>
                </a:solidFill>
                <a:uFillTx/>
                <a:latin typeface="MeiryoKe_Gothic"/>
                <a:ea typeface="MeiryoKe_Gothic"/>
              </a:rPr>
              <a:t>約</a:t>
            </a:r>
            <a:r>
              <a:rPr b="0" lang="ja-JP" sz="5000" spc="-1" strike="noStrike" u="sng">
                <a:solidFill>
                  <a:srgbClr val="ffffff"/>
                </a:solidFill>
                <a:uFillTx/>
                <a:latin typeface="MeiryoKe_Gothic"/>
                <a:ea typeface="MeiryoKe_Gothic"/>
              </a:rPr>
              <a:t>40</a:t>
            </a:r>
            <a:r>
              <a:rPr b="0" lang="ja-JP" sz="5000" spc="-1" strike="noStrike" u="sng">
                <a:solidFill>
                  <a:srgbClr val="ffffff"/>
                </a:solidFill>
                <a:uFillTx/>
                <a:latin typeface="MeiryoKe_Gothic"/>
                <a:ea typeface="MeiryoKe_Gothic"/>
              </a:rPr>
              <a:t>％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が、オリジナル映像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789480" y="6491160"/>
            <a:ext cx="107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参考：</a:t>
            </a:r>
            <a:r>
              <a:rPr b="0" lang="ja-JP" sz="1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http://it.nikkei.co.jp/internet/special/youtube.aspx?n=MMIT1000000611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048440" y="2209680"/>
            <a:ext cx="209556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１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とは（おさらい）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858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構成要素と代表的なサービス　　　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Tim O‘reilly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氏の論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１．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Folksonomy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：　　・・・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Flickr, 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はてなブックマーク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　階層分類でなく、ユーザーの手で自由に分類する思想，タグ付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２．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Rich User Experiences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：　　・・・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Gmail,GoogleMap,goo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地図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　　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AJAX,DHTML,Greasmonkey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，ページ上の直感的操作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３．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User as contributor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：　　・・・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PageRank,Amazon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レビュー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　　ユーザー体験の蓄積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４．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Long tail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：　　・・・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Google Adsense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，アマゾン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　　ユーザーセルフサービスの提供でロングテールを取り込む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５．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Participation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：　　・・・ブログ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,mixi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　　ユーザー参加型開発、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CGM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，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UCC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（ユーザー生成コンテンツ）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６．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Radical Trust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：　　・・・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Wikipedia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、はてなダイアリーキーワード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　　進歩的性善説、知のオープンソース</a:t>
            </a: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７．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Radical Decentralization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：　　・・・</a:t>
            </a: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Winny,BitT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　　進歩的分散志向、ネットワークの外部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４．コンテンツビジネス　最近の動向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69960"/>
            <a:ext cx="8839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遅れて日本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動画を投稿する敷居が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低くなった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携帯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デジカメ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mpeg4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カメラ（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Xacti</a:t>
            </a: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） 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72200" y="4343400"/>
            <a:ext cx="2523960" cy="2028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886440" y="6324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SANYO Xac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５．新たな広告媒体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762120"/>
            <a:ext cx="891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広告付きプリント写真「プリア」 　大容量ネットアルバ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高画質ネットプリン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→すべて無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2971800" cy="2063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248520" y="3200400"/>
            <a:ext cx="255276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５．新たな広告媒体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120680"/>
            <a:ext cx="846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無料コピー機「タダコピ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用紙の裏に広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コピー代が無料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大学で人気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10360" y="2438280"/>
            <a:ext cx="2628720" cy="35053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-520560" y="6324480"/>
            <a:ext cx="101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参考：</a:t>
            </a:r>
            <a:r>
              <a:rPr b="0" lang="ja-JP" sz="1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http://www.asahi.com/national/update/1023/TKY200610230233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５．新たな広告媒体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120680"/>
            <a:ext cx="846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無料のマンガ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「コミック・ガンボ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版も開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1657080" cy="895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80240" y="3048120"/>
            <a:ext cx="26413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５．新たな広告媒体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914400"/>
            <a:ext cx="8991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広告媒体の拡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あらゆるものが広告媒体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（あらゆるものがタダに？！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　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広告クリエーター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　　　　　活動の場が拡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E01832_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75284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６．ＷＥＢ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　ネクスト時代の新たなサービス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68580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字幕</a:t>
            </a:r>
            <a:r>
              <a:rPr b="1" lang="ja-JP" sz="4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.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YouTube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動画にブラウザ上から字幕を作成できるサービ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一つの映像に対して、何パターンものセリフを割り当てて楽しめ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27672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６．ＷＥＢ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　ネクスト時代の新たなサービス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685800"/>
            <a:ext cx="8001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パソコンなくても、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ii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で観られる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Youtube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動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Rim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orese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gdgd.t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DARA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６．ＷＥＢ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　ネクスト時代の新たなサービス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685800"/>
            <a:ext cx="868680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3D</a:t>
            </a:r>
            <a:r>
              <a:rPr b="1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仮想空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Second lif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splume(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和製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・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Home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（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PS3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版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Second Life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791320" y="1001880"/>
            <a:ext cx="2990880" cy="185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432800" y="4800600"/>
            <a:ext cx="44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ゲーム内広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RMT</a:t>
            </a: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（リアルマネートレード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　　→ビジネスチャン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2971800" cy="16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最後に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6996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これからは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個人が動画を配信する時代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まさしく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コンテンツクリエーターの時代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238880" y="228600"/>
          <a:ext cx="16560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28600"/>
                    <a:ext cx="1656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最後に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762120"/>
            <a:ext cx="8464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コンテンツクリエータ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まずは、身近な動画を作っ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Youtube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に公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そして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MCCA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事務局を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second life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内に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「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MCCA2.0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2108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205740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１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とは（おさらい）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参考：</a:t>
            </a:r>
            <a:r>
              <a:rPr b="0" lang="ja-JP" sz="1800" spc="-1" strike="noStrike">
                <a:solidFill>
                  <a:srgbClr val="ffffff"/>
                </a:solidFill>
                <a:latin typeface="MeiryoKe_UIGothic"/>
                <a:ea typeface="MeiryoKe_UIGothic"/>
              </a:rPr>
              <a:t>http://kosmar.de/archives/2005/11/11/the-huge-cloud-lens-bubble-map-web20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763120" cy="5842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838080"/>
            <a:ext cx="4191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バブルマッ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１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とは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892080"/>
            <a:ext cx="6019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百式の田口さ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●●●●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サイ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238880" y="4267080"/>
          <a:ext cx="14288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4267080"/>
                    <a:ext cx="14288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609480"/>
            <a:ext cx="8458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「ウェブ進化論」梅田望夫さ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eiryoKe_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考えるのではなく、見て触って感じ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eiryoKe_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１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と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4952880"/>
          <a:ext cx="220968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2880"/>
                    <a:ext cx="22096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408"/>
            </a:gs>
            <a:gs pos="100000">
              <a:srgbClr val="4245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２．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WEB2.0</a:t>
            </a:r>
            <a:r>
              <a:rPr b="0" lang="ja-JP" sz="2800" spc="-1" strike="noStrike">
                <a:solidFill>
                  <a:srgbClr val="ffffff"/>
                </a:solidFill>
                <a:latin typeface="MeiryoKe_Gothic"/>
              </a:rPr>
              <a:t>の本質</a:t>
            </a:r>
            <a:endParaRPr b="0" lang="en-US" sz="2800" spc="-1" strike="noStrike">
              <a:solidFill>
                <a:srgbClr val="ffffff"/>
              </a:solidFill>
              <a:latin typeface="MeiryoKe_Gothic"/>
            </a:endParaRPr>
          </a:p>
        </p:txBody>
      </p:sp>
      <p:sp>
        <p:nvSpPr>
          <p:cNvPr id="110" name=""/>
          <p:cNvSpPr/>
          <p:nvPr/>
        </p:nvSpPr>
        <p:spPr>
          <a:xfrm>
            <a:off x="1809000" y="838080"/>
            <a:ext cx="554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大きなポイン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WEB</a:t>
            </a: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MeiryoKe_Gothic"/>
                <a:ea typeface="MeiryoKe_Gothic"/>
              </a:rPr>
              <a:t>単なる壁新聞ページじゃなくなっ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715000" y="380880"/>
          <a:ext cx="281952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80880"/>
                    <a:ext cx="281952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6:45:34Z</dcterms:created>
  <dc:creator>taki</dc:creator>
  <dc:description/>
  <dc:language>en-US</dc:language>
  <cp:lastModifiedBy>taki</cp:lastModifiedBy>
  <dcterms:modified xsi:type="dcterms:W3CDTF">2007-03-24T15:16:32Z</dcterms:modified>
  <cp:revision>22</cp:revision>
  <dc:subject/>
  <dc:title>MCCA 　～宮城コンテンツクリエイターズ協議会～　 総会  「WEB2.0ネクスト時代におけるデジタルコンテンツの未来」 ～Google,SNS,Youtube,Second lifeにおけるイノベーション～   </dc:title>
</cp:coreProperties>
</file>